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A6097-9CF8-49C1-82A9-3347FFA65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88114-D40A-4801-8892-EDA6671FD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21D7A-0FC1-4498-AC53-45678C1E2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80AEB-74FB-4020-B40C-63E8A1E03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E35D2-7AD0-481A-85AB-9ED35C08D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AE364-81DA-4A15-9AA0-879D26F2F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30283-6228-4FF2-864D-98C6A10E7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01720-DE7B-498B-81BB-17582EDFC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FAA5F-DE5A-4651-8352-7BFB2D4B4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14837-6048-405C-BBBD-1FEFA9AD4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55E50-F936-4346-B9C7-6CA694829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2DB79-12E5-4860-8076-9C72546E4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36AFE-CFB1-4E79-A745-D56BBB75DB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505320" y="380880"/>
            <a:ext cx="2057400" cy="3200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2438280" y="3962520"/>
            <a:ext cx="426744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ff3300"/>
                </a:solidFill>
                <a:latin typeface="Impact"/>
              </a:rPr>
              <a:t>A girl named disaster</a:t>
            </a:r>
            <a:endParaRPr b="0" lang="en-US" sz="2400" spc="1" strike="noStrike">
              <a:ln w="12600">
                <a:solidFill>
                  <a:srgbClr val="ffffff"/>
                </a:solidFill>
                <a:miter/>
              </a:ln>
              <a:solidFill>
                <a:srgbClr val="ff3300"/>
              </a:solidFill>
              <a:latin typeface="Impact"/>
              <a:ea typeface="Impact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5714640"/>
            <a:ext cx="91440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By</a:t>
            </a:r>
            <a:br>
              <a:rPr sz="4400"/>
            </a:b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Michael Fult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0" name="" descr=""/>
          <p:cNvPicPr/>
          <p:nvPr/>
        </p:nvPicPr>
        <p:blipFill>
          <a:blip r:embed="rId5"/>
          <a:stretch/>
        </p:blipFill>
        <p:spPr>
          <a:xfrm>
            <a:off x="3505320" y="2209680"/>
            <a:ext cx="20574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 txBox="1"/>
          <p:nvPr/>
        </p:nvSpPr>
        <p:spPr>
          <a:xfrm>
            <a:off x="2514600" y="457200"/>
            <a:ext cx="3809880" cy="21337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300889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cc"/>
                  </a:solidFill>
                  <a:miter/>
                </a:ln>
                <a:solidFill>
                  <a:srgbClr val="777777"/>
                </a:solidFill>
                <a:latin typeface="Arial Black"/>
              </a:rPr>
              <a:t>Shelter</a:t>
            </a:r>
            <a:endParaRPr b="0" lang="en-US" sz="2400" spc="1" strike="noStrike">
              <a:ln w="9360">
                <a:solidFill>
                  <a:srgbClr val="0000cc"/>
                </a:solidFill>
                <a:miter/>
              </a:ln>
              <a:solidFill>
                <a:srgbClr val="777777"/>
              </a:solidFill>
              <a:latin typeface="Arial Black"/>
              <a:ea typeface="Arial Black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-349200" y="2971800"/>
          <a:ext cx="9493200" cy="6568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-349200" y="2971800"/>
                    <a:ext cx="9493200" cy="656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2819520" y="1371600"/>
            <a:ext cx="313344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1" name="" descr=""/>
          <p:cNvPicPr/>
          <p:nvPr/>
        </p:nvPicPr>
        <p:blipFill>
          <a:blip r:embed="rId5"/>
          <a:stretch/>
        </p:blipFill>
        <p:spPr>
          <a:xfrm>
            <a:off x="152280" y="4429080"/>
            <a:ext cx="1876680" cy="24289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6"/>
          <a:stretch/>
        </p:blipFill>
        <p:spPr>
          <a:xfrm>
            <a:off x="2133720" y="4724280"/>
            <a:ext cx="2495520" cy="18385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7"/>
          <a:stretch/>
        </p:blipFill>
        <p:spPr>
          <a:xfrm>
            <a:off x="4724280" y="4724280"/>
            <a:ext cx="2419560" cy="18226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8"/>
          <a:stretch/>
        </p:blipFill>
        <p:spPr>
          <a:xfrm>
            <a:off x="7210440" y="4267080"/>
            <a:ext cx="193356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152280" y="1143000"/>
            <a:ext cx="2619360" cy="1743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6"/>
          <a:stretch/>
        </p:blipFill>
        <p:spPr>
          <a:xfrm>
            <a:off x="3124080" y="1143000"/>
            <a:ext cx="2629080" cy="17334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7"/>
          <a:stretch/>
        </p:blipFill>
        <p:spPr>
          <a:xfrm>
            <a:off x="6095880" y="1066680"/>
            <a:ext cx="2495520" cy="18385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8"/>
          <a:stretch/>
        </p:blipFill>
        <p:spPr>
          <a:xfrm>
            <a:off x="2362320" y="3697200"/>
            <a:ext cx="4267080" cy="290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"/>
          <p:cNvSpPr txBox="1"/>
          <p:nvPr/>
        </p:nvSpPr>
        <p:spPr>
          <a:xfrm>
            <a:off x="2381400" y="304920"/>
            <a:ext cx="4095720" cy="22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Fun Fact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228600" y="2819520"/>
            <a:ext cx="836280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4d4d4d"/>
                </a:solidFill>
                <a:latin typeface="Arial Black"/>
              </a:rPr>
              <a:t>In africa many of the kids there do not get to participate in school.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solidFill>
                <a:srgbClr val="4d4d4d"/>
              </a:solidFill>
              <a:latin typeface="Arial Black"/>
              <a:ea typeface="Arial Black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228600" y="4114800"/>
            <a:ext cx="836280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4d4d4d"/>
                </a:solidFill>
                <a:latin typeface="Arial Black"/>
              </a:rPr>
              <a:t>Four of the five fastest land animals live in africa, which is the cheetah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solidFill>
                <a:srgbClr val="4d4d4d"/>
              </a:solidFill>
              <a:latin typeface="Arial Black"/>
              <a:ea typeface="Arial Black"/>
            </a:endParaRPr>
          </a:p>
        </p:txBody>
      </p:sp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2895480" y="4483080"/>
            <a:ext cx="3171960" cy="23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 txBox="1"/>
          <p:nvPr/>
        </p:nvSpPr>
        <p:spPr>
          <a:xfrm>
            <a:off x="2200320" y="343080"/>
            <a:ext cx="4352760" cy="133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Bibliography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2" name=""/>
          <p:cNvSpPr/>
          <p:nvPr/>
        </p:nvSpPr>
        <p:spPr>
          <a:xfrm>
            <a:off x="1598760" y="2209680"/>
            <a:ext cx="59230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gapwork.com/africa-funstuff.s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85800" y="2819520"/>
            <a:ext cx="777240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foodbycountry.com/Kazakhstan-to-South-Africa/South-Africa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361600" y="3886200"/>
            <a:ext cx="42526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afrikaworld.net/afrel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6T01:35:55Z</dcterms:created>
  <dc:creator>Jauna LEE FULTZ</dc:creator>
  <dc:description/>
  <dc:language>en-US</dc:language>
  <cp:lastModifiedBy>Jauna LEE FULTZ</cp:lastModifiedBy>
  <dcterms:modified xsi:type="dcterms:W3CDTF">2010-11-06T02:22:59Z</dcterms:modified>
  <cp:revision>3</cp:revision>
  <dc:subject/>
  <dc:title>By Michael Fultz</dc:title>
</cp:coreProperties>
</file>